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AB9F-2CDD-443B-BD2D-BFB342FE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3BE-4B0C-4938-A773-64EDBE47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3DC7-B2A3-44B2-9933-BA510CC3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72B0-873C-42F1-B259-5CD429C4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566-6DEB-43CF-B3EA-0D52162E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CC9D-F67F-4658-A20C-831C4C7E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0E5F-E96A-4D16-9D7E-23C0FE58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2967-374B-4BD6-B8B6-0E4F547A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85AD-000A-4F25-B775-D038657B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209-7A38-4F32-A1A2-DC561E2B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0145-8F91-49F5-B196-C2C4205E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87D6-4EF2-4832-A7EE-FF97F44A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477F-2828-44A4-A068-5C28679E5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Fall of the Rom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7057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in is the basis for the Romance languages (Spanish, French, Italian, Portuguese, and Romani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us many of our English words w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63860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conomic Rea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taxes wiped out the middl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and businesses wen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unemployment due to slave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43200" y="3733920"/>
            <a:ext cx="365760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itical Rea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 fighting to be “emper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Emperors over a short time s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05320" y="2971800"/>
            <a:ext cx="231912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cial Rea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al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interest in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76720" y="39625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litary Rea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y grew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did not en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ruited non-Romans to defen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y became undiscipl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336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MAN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16256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e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343400" cy="3255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52280" y="3657600"/>
            <a:ext cx="44006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hors/Wri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c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g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t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1219320"/>
            <a:ext cx="379080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nian Code ~ all people are equal and you are innocent to proven gui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76520" y="4038480"/>
            <a:ext cx="1806480" cy="141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158436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18:38:36Z</dcterms:created>
  <dc:creator>gehadde</dc:creator>
  <dc:description/>
  <dc:language>en-US</dc:language>
  <cp:lastModifiedBy>gehadde</cp:lastModifiedBy>
  <dcterms:modified xsi:type="dcterms:W3CDTF">2012-06-06T13:03:57Z</dcterms:modified>
  <cp:revision>6</cp:revision>
  <dc:subject/>
  <dc:title>WARM-UP: # </dc:title>
</cp:coreProperties>
</file>